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D6C-834E-487C-AA05-794CF7D1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F73-21E3-4D82-B242-D8027159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3BA-2965-44CD-8AC1-59F77355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46A-3506-443A-973A-8FAA5CCE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E5E-016F-435A-8947-936398C4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E84-2D39-4CCF-958A-8364829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6D5-175F-49F8-A957-2B5D1D19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CBB-CC90-48C1-AD51-017B440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DAA-7014-4E6A-BA57-10AE651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62E-0FD9-45F9-AE51-C7D0E25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C5B-A5B4-4A52-AB40-EEA3F06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942-4234-4339-B2C7-540AAF7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1A0-AE9A-4FF5-B17C-888E7E51471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4365720"/>
            <a:ext cx="4135320" cy="2019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6629"/>
          <a:stretch/>
        </p:blipFill>
        <p:spPr>
          <a:xfrm>
            <a:off x="2627280" y="3068640"/>
            <a:ext cx="3729240" cy="129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404640"/>
            <a:ext cx="4127400" cy="138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6629"/>
          <a:stretch/>
        </p:blipFill>
        <p:spPr>
          <a:xfrm>
            <a:off x="2627280" y="1773360"/>
            <a:ext cx="3729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0:35:40Z</dcterms:created>
  <dc:creator>37223 Sóti Gábor (743)</dc:creator>
  <dc:description/>
  <dc:language>en-US</dc:language>
  <cp:lastModifiedBy>37223 Sóti Gábor (743)</cp:lastModifiedBy>
  <dcterms:modified xsi:type="dcterms:W3CDTF">2009-04-15T11:49:07Z</dcterms:modified>
  <cp:revision>3</cp:revision>
  <dc:subject/>
  <dc:title>Slide 1</dc:title>
</cp:coreProperties>
</file>