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34F-B138-4D6F-AE9E-2E29FE1C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40C-E5F8-4817-BA05-F5E0094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0F2-B573-4ADE-9577-93FA8C32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1A0-AE00-410C-B9A4-9809675A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236-B228-47B1-9741-BB521FAB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353-09E7-40E1-BA0E-CCB67B2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745-F25C-415F-B7FA-B58C4116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94B-C0A6-4A0D-8CF3-9830AFA4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2CA-A562-4DD1-A3D9-A673B9A3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95E-50C0-42AF-A4C9-C629A22C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BBD-DA41-4675-BD37-F8DA2B3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B55-5920-490E-9C64-781A95B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E660-5C61-4390-A79C-D3C0B7E02B2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135320" cy="2019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6629"/>
          <a:stretch/>
        </p:blipFill>
        <p:spPr>
          <a:xfrm>
            <a:off x="2627280" y="2492280"/>
            <a:ext cx="3729240" cy="1297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1125360"/>
            <a:ext cx="412740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0:35:40Z</dcterms:created>
  <dc:creator>37223 Sóti Gábor (743)</dc:creator>
  <dc:description/>
  <dc:language>en-US</dc:language>
  <cp:lastModifiedBy>37223 Sóti Gábor (743)</cp:lastModifiedBy>
  <dcterms:modified xsi:type="dcterms:W3CDTF">2009-04-15T11:42:06Z</dcterms:modified>
  <cp:revision>2</cp:revision>
  <dc:subject/>
  <dc:title>Slide 1</dc:title>
</cp:coreProperties>
</file>