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C2E-5D92-4019-90C5-3CB092D9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CB9-68D9-4835-B442-DEFD7965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DCB-9B8D-400A-A0D3-10F1441A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70E-16E0-42A4-A5B0-31E7B478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96E-1BDA-4760-AE44-BDBEB313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31D-6A50-4D34-8314-33F5B577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827-0DA2-4C83-9DA4-97F92F7D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0AA-1FAB-419B-A592-8FB2B786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E71-6A3C-40D3-BDEF-852073D4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913-917E-4CB1-B012-D6D87D76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18A8-2D55-484D-8C51-20DCDF70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7D0-C313-48EE-A254-8E360017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EEC3-38F8-4C11-B6B3-F337F70D6D4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4135320" cy="2019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412740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0:35:40Z</dcterms:created>
  <dc:creator>37223 Sóti Gábor (743)</dc:creator>
  <dc:description/>
  <dc:language>en-US</dc:language>
  <cp:lastModifiedBy>37223 Sóti Gábor (743)</cp:lastModifiedBy>
  <dcterms:modified xsi:type="dcterms:W3CDTF">2009-04-15T11:42:44Z</dcterms:modified>
  <cp:revision>3</cp:revision>
  <dc:subject/>
  <dc:title>Slide 1</dc:title>
</cp:coreProperties>
</file>